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camera.wav" ContentType="audio/x-wav"/>
  <Override PartName="/ppt/media/image4.jpeg" ContentType="image/jpeg"/>
  <Override PartName="/ppt/media/driveby.wav" ContentType="audio/x-wav"/>
  <Override PartName="/ppt/media/image5.jpeg" ContentType="image/jpeg"/>
  <Override PartName="/ppt/media/type.wav" ContentType="audio/x-wav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779-1ED4-4BF6-9668-1321BF6D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1A5-AD91-44BD-BBA1-2B323066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0A9-C13C-4934-913F-473A8042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5FC-1BAD-4555-A1C1-0A9A5C0B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BE16-563D-44D5-B96A-0816A713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967C-FBA5-4238-83F0-D07279A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79EE-E677-4FCB-96A8-BA5578BC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8F3A-212A-4262-A16A-53C64413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F38B-9882-49A6-B452-B1B545D5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B884-C3EA-4A49-9028-EFAC5D32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80AF-D440-4AC6-8BD8-12A70E3F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687-7A2B-4035-A253-2EDEFC62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E834-F10A-4BD5-A2E0-3C695979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3EAB-8296-44A0-BC6F-F5FE0B3A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2199-41B6-43D6-884C-A465E0BA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978D-0720-4A32-B272-B3471881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2D78-2401-4253-90C6-BFE2C7F5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904-73EC-430C-8809-B4D797AE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8DB-3946-4275-9908-879CD0A8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22E-31FC-45E9-8F31-042B4A54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B94-8461-4C9D-AA0D-C8F0774C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A4A-9EB1-48A5-9B48-3E389BA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348-3CEA-45EA-9A01-613E7433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A94-9D41-4D65-872A-05D3516C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3363-8101-4DAC-B87D-34F46CAC6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DB25-B814-4790-9B21-BC3F7EE76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Bookman Old Style"/>
              </a:rPr>
              <a:t>The Scarlet Letter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y Nathaniel Hawtho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Nathaniel Hawthor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Hawthorne once said: “I do not want to be a doctor and live by man’s diseases, nor a minister to live by their sins, nor a lawyer and live by their quarrels.  So, I don’t see that there is anything left for me but to be an author.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3429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About the Auth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33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Born July 4, 1804 in Salem, M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eclusive at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rved as a magazine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orked in the Salem Custom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ived at Brook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rot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wice-Told Tales, The House of Seven Gables, The Scarlet Lette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Married Sophia Peabody and fathered Una (who became the model for Pear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rved as the United States Consul to Liverp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Died in 1864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Buried in Concord, Massachuse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Great-great-great-great grandfather, John Hathorne, was judge at Salem witch t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The Custom Ho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awthorne claims to have gotten the idea for this novel from the paper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Jonathan Pu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.  Among the papers, Hawthorne allegedly found an embroider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scarlet A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on Hester Pryn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Historical Contex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Boston Colony founded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16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John Winthrop (lea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Puritans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wanted to “purify” the Church of England of all traces of Catholicism in liturgy, theology, and church organiz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Recognize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Bibl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as the sole source of religious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aintained a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theoc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Believed in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predestination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or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Doctrine of the 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nflict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public punishments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to deter others from straying from righteousness (hanging, whipping, humiliation, etc,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038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Plot/Set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novel is set in the mid 1600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Boston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, Massachuset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plot encompass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seven year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plot involves the love triangl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ife-lover-husband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major theme of the novel is developed in the contex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good vs. evil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4" dur="1" fill="hold"/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Point of 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ird-Person Omniscient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…Hawthorne reveals the inner and outer workings of the characters and provides social criticism, history, and psych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Charact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Hester Prynne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wearer of the scarlet let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Pearl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child of Hester; living symbol of Hester’s s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Roger Chillingworth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learned scholar; do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Arthur Dimmesdale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admired young mini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Governor Bellingham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governor and magistrate of Massachusetts Bay Colo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Rev. John Wilson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senior minister of colo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Mistress Hibbins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Gov. Bellingham’s si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Bookman Old Style"/>
              </a:rPr>
              <a:t>Major Symbol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scarlet lette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itself is the central symbol. 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changes meanin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for the characters in the novel as Hester’s character changes.  The A becomes a pathway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redemptio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for some characters as well.  Watch the many ways Hawthorne uses the scarlet A as a symbo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617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22:58:27Z</dcterms:created>
  <dc:creator>ckandmwhays</dc:creator>
  <dc:description/>
  <dc:language>en-US</dc:language>
  <cp:lastModifiedBy>BPS</cp:lastModifiedBy>
  <dcterms:modified xsi:type="dcterms:W3CDTF">2010-10-05T00:17:24Z</dcterms:modified>
  <cp:revision>16</cp:revision>
  <dc:subject/>
  <dc:title>The Scarlet Letter </dc:title>
</cp:coreProperties>
</file>